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E2F-979F-4720-A2FE-A758841D6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31FB-BCC8-4505-B29C-F88385BE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7C7E-E4FE-4EDC-9319-9E7245A21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1988-87AD-4148-97E6-D6D3F9E2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DBA3-24C6-4543-9F69-CB36A28C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3355-417E-4879-AE19-0A7DB3F1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C227C-798B-415D-8192-329C25E76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ACE9E-8766-40C4-9EEC-25765BA7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F2CA-F0C3-448F-975B-CB9D904C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924F-7A48-4D11-A7F1-7ACF33FF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03D5-FBBA-4500-803E-D120E76F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E27-5EAC-42E5-87B3-7A04E7C7D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387F-A583-4D59-B883-3F13101152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nca y competencia: la experiencia de los órganos de competencia en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blo S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nuncia Conadec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a no traspasa a usuarios, especialmente los más chicos, caída en T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a rentabilidad de la b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ormación a clientes escasa y poco transpa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icit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or transparencia de cob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ncionar a Asociación de Ban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orme Fiscal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direct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tecedentes económic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 bancos, pero sólo 5 concentran 72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sibles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ólo ingresan bancos asociados a grandes tien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 de sociedades de apoyo al gi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hay evidencia económica de colus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uniformidad de tasas entre ban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tre el 98 y el 2002 TPM baja 6,26 puntos porcentuales, la tasa agregada de colocación 4,36 y la de captación 4,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read no camb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 TPM es de corto plazo, mientras que agregadas incluyen operaciones de largo plazo y stock de colo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sas promedios no distinguen clientes grandes de pequeños, competencia de banca internacional y des-intermediación en los primer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elocidad de trans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udios usan datos mensuales con tasas de perío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rstein y Flores datos 98-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 es flex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similar a México y el 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inoza-Vega y Rebuc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locidad de traspaso algo menor que en Canadá, Australia y los EE.U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as de largo plazo responden más l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etría en la tasa de traspas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usación a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tarjetas de créditos hay tres roles: emisor,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ncos y otras instituciones son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única empresa que cumple roles operador y adquir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bank es propiedad de bancos e 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bros de Transban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al comercio por  transacción y arriendo de termin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cuenta de emisores comisión (promedio 2,3%) al comer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cobra por transacción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k devolvía U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¢ 2,4 por transacción a los emisores que son soc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ctamen y Requerimiento FN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Transbank abusa de su poder monopólico teniendo una rentabilidad de más de 50%, que disfraza a través de pagos a los emi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Discrimina en las comisiones cobradas a los establecimientos comercial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nsa de la denunci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El mercado relevante son todos los medios de pago (efectivo, cheques, tarjetas de créditos de casas comerciales .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Al menos debe incluir tarjetas comer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ercado con demanda bilat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No puede haber competencia en emisión y abuso monopólico en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misores internalizan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Fallo del Tribu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Mercado de servicios de tarjetas de crédito es de dos l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Plataforma comercial que presta servicios a dos tipos de clientes, tarjetahabientes y comerciantes en este ca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Times New Roman"/>
              </a:rPr>
              <a:t>Los beneficios de un tipo de clientes aumentan con la participación del otro tipo de usuar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Times New Roman"/>
              </a:rPr>
              <a:t>Mercados de dos lado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Análisis tradicional puede conducir a err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os sub-mercados deben analizarse en forma conju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mpresas pueden cobrar sólo a un tipo de cliente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Revistas y periódicos que se entregan gratuitamente a los lect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: arrendatarios y públic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Adobe vende su producto Acrobat Exchange  y regala versión restringida que sólo permite lectu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ompetencia puede darse al interior de la plataforma como entre distintas plataformas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stitucionalidad de compet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bunal de Defensa de la Li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scalía Nacional Económ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 rol investigador del rol jurisdicc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scalía representa interés públ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ibunal no puede actuar de of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 en base al expediente (bilateralidad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Times New Roman"/>
              </a:rPr>
              <a:t>Competencia en emi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segurar que no hay rentas monopólicas s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s transferencias entre Transbank y los emisores se realizan en función de las transac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Existe competencia en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Emisores internalizan los ingresos por adquir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Aumento en la comisión que paga el comercio beneficiaría a a los consumi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Salvo por el reparto de utilidades, los ingresos que reciben las instituciones financieras dependen directamente de las transacciones realizad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Times New Roman"/>
              </a:rPr>
              <a:t>Diferenciación de tarif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De común ocurrencia en el caso de los mercados de dos 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entros comer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Líneas aére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diferenciación de precios </a:t>
            </a:r>
            <a:r>
              <a:rPr b="0" i="1" lang="es-CL" sz="2400" spc="-1" strike="noStrike">
                <a:solidFill>
                  <a:srgbClr val="000000"/>
                </a:solidFill>
                <a:latin typeface="Times New Roman"/>
              </a:rPr>
              <a:t>per s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es 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Puede ser necesaria para el funcionamiento eficiente de un merc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No hay antecedentes que los descuentos por volumen que realiza Transbank estén fundados en 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misiones a un mismo rubror fluctuaban entre 1% y 3,5%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ecciones: competencia en el sistema financier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ntración pueden afect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vencia (TBT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acto positivo sobre ahorro e inver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ectividad de la política moneta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locidad de traspaso aumenta con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Puntos controverti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finición de merc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do de competencia en la industr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lación entre concentración y compet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s financieros no banc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Mercados exter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Desintermediación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Segmen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Geográf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Producto (paquetes de producto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Tipo de cl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rreras de entrada en la ban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legales para preservar estabil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ena regulación permit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iedad conjunta de activos esenci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 de cajeros automáticos, depósito de valores, operador de sistema de tarje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to de cambio (ventaja de entrar ant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erciales (costo recabar información sobre clientes y crear reputació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genda (estudio de caso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sión bancos Santander y Santiago, Fallo Comisión Resolutiva (enero 02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adecus contra Asociación de Bancos, Fallo Tribunal (abril 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usación a Transbank, Fallo Tribunal (Septiembre 20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c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entración Santander-Santiag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genera por fusión del BS y el BCH en Espa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 Bancos: fusiones requieren aprobación SBIF por tema solv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claración intenciones BSCH a la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unciaba a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ministración independie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ción de participación de mercado (28%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F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jo independiente no era creí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ción en participación afecta 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idencia internacional: concentración bancaria perjudica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istían barreras legales y comer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erimiento ante Comisión Resolu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larar que operación era anticompeti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zo de 18 meses para terminar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ual fusión debía aprobarse por C. Preven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sición BSCH y ban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robar fusión era atribución SBI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rcado relevante incluye a mayoría del mercado de capitales en el que tiene 18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idencia empírica no permite concluir que concentración afecte a la competen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rreras a la entrada irreleva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jó puntos de prueb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ción mercado relev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ancia de barrera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rado de competencia en el merc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idencia internacional sobre relación entre competencia y concentr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allo Comisión Resoluti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ene atribuciones para analizar f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rcado relevante es más amplio que el de bancos e instituciones financi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cos internacionales, des-intermediación financiera, casas comerciales, fondos mutu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dddddd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ddddd"/>
                </a:solidFill>
                <a:latin typeface="Times New Roman"/>
              </a:rPr>
              <a:t>No está probado efecto negativo sobre compet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olu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hazó requerimiento del fis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jó sin efecto compromiso de reducir participación de merc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comendó a la Fiscalía vigilar las tasas de interés en comunas donde ambos bancos representaban más del 50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1T05:10:26Z</dcterms:created>
  <dc:creator>dii</dc:creator>
  <dc:description/>
  <dc:language>en-US</dc:language>
  <cp:lastModifiedBy>Pablo Serra</cp:lastModifiedBy>
  <dcterms:modified xsi:type="dcterms:W3CDTF">2005-11-14T15:35:56Z</dcterms:modified>
  <cp:revision>15</cp:revision>
  <dc:subject/>
  <dc:title>Banca y competencia: la experiencia de los órganos de competencia en Chile</dc:title>
</cp:coreProperties>
</file>